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C43-9809-42C4-8531-A52AE894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090-EEFA-4E27-B6DD-D259F2F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D6A-51EF-4B2D-9873-4F135AE5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EA4-939C-43A7-A095-B19DB988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315-0EC4-4C33-9AC7-197548F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AB0-1F22-4687-BA3B-052ECE6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DF8-165E-483D-B70C-A1EAEA6E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DE6-0D50-44AA-B923-6F45333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2DB-7C5C-4151-B71B-77E12605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88C-2289-4D1E-8F9F-A42FC76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C3C-1DFB-4024-B723-9F350E3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C6B-70D5-4A9C-9EBE-B2A330F1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83FE-BDA6-4FEA-9D7D-150F6F72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9-03T20:50:01Z</dcterms:modified>
  <cp:revision>11</cp:revision>
  <dc:subject/>
  <dc:title>Slide 1</dc:title>
</cp:coreProperties>
</file>